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BD165-6386-4169-9762-57CA49968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1"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2B63-A220-4282-8C2E-29EE6B802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B126A-8348-4616-8F94-8CD731F5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9"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2766D-7E63-477B-9F36-4355E4310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07841-FF8B-4B6E-A22B-DDA97671E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5"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FE52B-95F7-4970-A94B-369DF4981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7"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EA156-431C-4FD4-94BA-7F59B6508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9"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EDAFE-C052-4378-B6A6-AC472B9C3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BB811-D8D3-4BF7-9EF2-F42A8E356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24526-0326-4A5F-8F17-6A5D33F89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06B3-69E9-444D-80C1-C6B711BCB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0"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FC9A6-6EBC-4D3C-9E13-8540B13F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8"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9E623-7285-42F0-8ABC-1A3563B07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2"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E5799-05BB-4FA4-93CA-935EE4E4B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6"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F78D-C9AF-42D3-838F-F496BFEEF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54BDB-4382-4EAD-B00B-30CAB938E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84"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81042-2EAF-439B-9C1E-8F3505C36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2"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D60F-2598-458A-BFF4-4527B625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4"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1EA3-3AF5-4AAA-82C3-92637FAFD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6544-A4E4-461E-BDC7-8F89B752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A150-E165-49BB-A6DC-AF74BAFD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DD56-E63D-424D-A567-463E4DE5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3"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B27B-05D4-41C2-B04D-C791F3C1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7"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B16B-D31F-43AB-A96A-2041FF205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E744-BD64-4B48-AEE9-5543C1CB00C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15B0-2B48-4205-A42B-EFB8B23289C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ERKEMBANGAN PR</a:t>
            </a:r>
            <a:endParaRPr b="0" lang="en-US" sz="4800" spc="-1" strike="noStrike">
              <a:solidFill>
                <a:srgbClr val="ffffff"/>
              </a:solidFill>
              <a:latin typeface="Times New Roman"/>
            </a:endParaRPr>
          </a:p>
        </p:txBody>
      </p:sp>
      <p:sp>
        <p:nvSpPr>
          <p:cNvPr id="9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4000"/>
          </a:bodyPr>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65- 1900 Publik masih dianggap bodoh</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00- 1918 Publik diberi informasi dan dilayan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18- 1945 Publik diberi pendidikan dan diharga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5 Di New York, PR sebagai pendidikan tinggi resm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8 di Belanda, memasuki Pendidikan Tinggi</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ugas Public Relations, Lima tugas pokok PR sehari-hari</a:t>
            </a:r>
            <a:endParaRPr b="0" lang="en-US" sz="40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nyelenggarakan dan bertanggung jawab atas penyampaian informasi, memperhatikan, mengolah pengaruh lingkungan yang masuk demi perbaikan dan perkembangan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onitor, merekam dan mengevaluasi tanggapan serta pendapat umum masyarakat</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80520"/>
            <a:ext cx="175284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Tugas PR</a:t>
            </a:r>
            <a:endParaRPr b="0" lang="en-US" sz="1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perbaiki Citra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nggung jawab Sosial, PR harus bertanggung jawab terhadap publik Internal dan Ekstern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omunikasi, PR mempunyai bentuk komunikasi yang khusus yaitu komunikasi timbal bali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gaimana metode/proses kerja PR itu?</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 Find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n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uating/communicat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oling/evaluating</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si dalam Public Relations</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lam PR,  Relasi adalah Faktor penting yang ikut menentukan sukses tidaknya seorang P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bina relasi bertujuan untuk terbentuknya sikap saling percaya dan menghargai sehingga konflik dapat diminimalisi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837720"/>
            <a:ext cx="6781680" cy="7621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PR Pemerintahan</a:t>
            </a:r>
            <a:endParaRPr b="0" lang="en-US" sz="5600" spc="-1" strike="noStrike">
              <a:solidFill>
                <a:srgbClr val="ffffff"/>
              </a:solidFill>
              <a:latin typeface="Times New Roman"/>
            </a:endParaRPr>
          </a:p>
        </p:txBody>
      </p:sp>
      <p:sp>
        <p:nvSpPr>
          <p:cNvPr id="117" name="PlaceHolder 2"/>
          <p:cNvSpPr>
            <a:spLocks noGrp="1"/>
          </p:cNvSpPr>
          <p:nvPr>
            <p:ph type="subTitle"/>
          </p:nvPr>
        </p:nvSpPr>
        <p:spPr>
          <a:xfrm>
            <a:off x="1219320" y="1676520"/>
            <a:ext cx="6705360" cy="39304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da pemerintahan pusat PR pada departemen-departemen mempunyai dua tugas, pertama menyebarkan informasi secara teratur mengenai kebijaksaan, perencanaan dan hasil yang telah dicapai.</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dua, menerangkan dan mendidik publik mengenai perundang-undangan, peraturan-peraturan dan hal-hal yang menyangkut kehidupan rakyat sehari-har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837720"/>
            <a:ext cx="2057400" cy="2286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PR Pemerintahan Pusat</a:t>
            </a:r>
            <a:endParaRPr b="0" lang="en-US" sz="1400" spc="-1" strike="noStrike">
              <a:solidFill>
                <a:srgbClr val="ffffff"/>
              </a:solidFill>
              <a:latin typeface="Times New Roman"/>
            </a:endParaRPr>
          </a:p>
        </p:txBody>
      </p:sp>
      <p:sp>
        <p:nvSpPr>
          <p:cNvPr id="119" name="PlaceHolder 2"/>
          <p:cNvSpPr>
            <a:spLocks noGrp="1"/>
          </p:cNvSpPr>
          <p:nvPr>
            <p:ph type="subTitle"/>
          </p:nvPr>
        </p:nvSpPr>
        <p:spPr>
          <a:xfrm>
            <a:off x="1371600" y="1447560"/>
            <a:ext cx="6400800" cy="41590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kanisme kerja PR di pemerintahan pusat tidak sama antara negara satu dengan negara yang lainnya. Hal ini dikarenakan oleh sistem pemerintahanyang bersangkutan.</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 inggris, pada setiap departemen ada 4 bagian sebagai pelengkap kerja PR yaitu </a:t>
            </a:r>
            <a:r>
              <a:rPr b="0" i="1" lang="en-US" sz="2600" spc="-1" strike="noStrike">
                <a:solidFill>
                  <a:srgbClr val="ffffff"/>
                </a:solidFill>
                <a:latin typeface="Arial"/>
              </a:rPr>
              <a:t>Press Ofiice, Broadcasting Section, Publicity Section, Intelligence se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609120"/>
            <a:ext cx="6782040" cy="7621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 Pemerintahan Daerah</a:t>
            </a:r>
            <a:endParaRPr b="0" lang="en-US" sz="4000" spc="-1" strike="noStrike">
              <a:solidFill>
                <a:srgbClr val="ffffff"/>
              </a:solidFill>
              <a:latin typeface="Times New Roman"/>
            </a:endParaRPr>
          </a:p>
        </p:txBody>
      </p:sp>
      <p:sp>
        <p:nvSpPr>
          <p:cNvPr id="121" name="PlaceHolder 2"/>
          <p:cNvSpPr>
            <a:spLocks noGrp="1"/>
          </p:cNvSpPr>
          <p:nvPr>
            <p:ph type="subTitle"/>
          </p:nvPr>
        </p:nvSpPr>
        <p:spPr>
          <a:xfrm>
            <a:off x="1219320" y="1371600"/>
            <a:ext cx="685800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hakikatnya dalam hal mekanisme kerja PR Pemerintahan Pusat dengan Pemerintahan Daerah sama saja. Namun Menurut Sam Black ada empat tujuan utama dari PR pemerintahan daerah:</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melihara penduduk agar mengetahui kebijaksanaan lembaga</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i kesempatan pada masyrakat untuk menyatakan pendapat mengenai proyek baru</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i informasi kepada penduduk mengenai hak dan tanggung jawab mereka</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gembangkan rasa bangga sebagai warga nega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837720"/>
            <a:ext cx="6858000" cy="8384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PR Internasional</a:t>
            </a:r>
            <a:endParaRPr b="0" lang="en-US" sz="5600" spc="-1" strike="noStrike">
              <a:solidFill>
                <a:srgbClr val="ffffff"/>
              </a:solidFill>
              <a:latin typeface="Times New Roman"/>
            </a:endParaRPr>
          </a:p>
        </p:txBody>
      </p:sp>
      <p:sp>
        <p:nvSpPr>
          <p:cNvPr id="123" name="PlaceHolder 2"/>
          <p:cNvSpPr>
            <a:spLocks noGrp="1"/>
          </p:cNvSpPr>
          <p:nvPr>
            <p:ph type="subTitle"/>
          </p:nvPr>
        </p:nvSpPr>
        <p:spPr>
          <a:xfrm>
            <a:off x="1219320" y="1828440"/>
            <a:ext cx="6858000" cy="3778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kitar tahun 1950 kegiatan PR mulai muncul di negara-negara benua eropa dan amerika. Perusahaan-perusahaan besar yang mengoperasikan PR Internasional ini kebanyakan menitikberatkan kegiatannya pada publisitas produksi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660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 Will, seorang pelopor PR Internasional menyatakan bahwa, PR Internasional akan berkembang pesat apabila mekanisme kerjanya didukung oleh:</a:t>
            </a:r>
            <a:endParaRPr b="0" lang="en-US" sz="3200" spc="-1" strike="noStrike">
              <a:solidFill>
                <a:srgbClr val="ffffff"/>
              </a:solidFill>
              <a:latin typeface="Times New Roman"/>
            </a:endParaRPr>
          </a:p>
        </p:txBody>
      </p:sp>
      <p:sp>
        <p:nvSpPr>
          <p:cNvPr id="125" name="PlaceHolder 2"/>
          <p:cNvSpPr>
            <a:spLocks noGrp="1"/>
          </p:cNvSpPr>
          <p:nvPr>
            <p:ph/>
          </p:nvPr>
        </p:nvSpPr>
        <p:spPr>
          <a:xfrm>
            <a:off x="533520" y="2133360"/>
            <a:ext cx="8153280" cy="373356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merintahan yang mapan dan demokrat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stem politik dan ekonomi memungkinkan dikembangkannya perusahaan pribadi dan digalakkan persaingan di segala bida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dia yang besar dan merdeka, yang memperoleh pengawasan pemerintah secara minimal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837720"/>
            <a:ext cx="6781680" cy="12956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oh pelaksanaan PR Internasional</a:t>
            </a:r>
            <a:endParaRPr b="0" lang="en-US" sz="4400" spc="-1" strike="noStrike">
              <a:solidFill>
                <a:srgbClr val="ffffff"/>
              </a:solidFill>
              <a:latin typeface="Times New Roman"/>
            </a:endParaRPr>
          </a:p>
        </p:txBody>
      </p:sp>
      <p:sp>
        <p:nvSpPr>
          <p:cNvPr id="127" name="PlaceHolder 2"/>
          <p:cNvSpPr>
            <a:spLocks noGrp="1"/>
          </p:cNvSpPr>
          <p:nvPr>
            <p:ph type="subTitle"/>
          </p:nvPr>
        </p:nvSpPr>
        <p:spPr>
          <a:xfrm>
            <a:off x="1142640" y="2209680"/>
            <a:ext cx="7010280" cy="37339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 pegawai United States Information Agency/ Service ( USIA/USIS) ditempatkan diluar Amerika, sebanyak 5000 karyawan adalah warga negara asing. USIA/USIS  mengoperasikan jaringan radio “Voice Of America” yang menyiarkan lebih dari 800 acara setiap jam dalam setiap minggu dengan menggunakan 35 bahasa dan ditanyangkan di 90 negara. Pusat-pusat informasi membuka perpustakaan, mengadakan pameran, dan menyelenggarakan kegiatan penerjemahan buk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173808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ffffff"/>
                </a:solidFill>
                <a:uFillTx/>
                <a:latin typeface="Times New Roman"/>
              </a:rPr>
              <a:t>Perkembangan PR</a:t>
            </a:r>
            <a:endParaRPr b="0" lang="en-US" sz="800" spc="-1" strike="noStrike">
              <a:solidFill>
                <a:srgbClr val="ffffff"/>
              </a:solidFill>
              <a:latin typeface="Times New Roman"/>
            </a:endParaRPr>
          </a:p>
        </p:txBody>
      </p:sp>
      <p:sp>
        <p:nvSpPr>
          <p:cNvPr id="93" name="PlaceHolder 2"/>
          <p:cNvSpPr>
            <a:spLocks noGrp="1"/>
          </p:cNvSpPr>
          <p:nvPr>
            <p:ph/>
          </p:nvPr>
        </p:nvSpPr>
        <p:spPr>
          <a:xfrm>
            <a:off x="457200" y="685800"/>
            <a:ext cx="8229600" cy="4525920"/>
          </a:xfrm>
          <a:prstGeom prst="rect">
            <a:avLst/>
          </a:prstGeom>
          <a:noFill/>
          <a:ln w="0">
            <a:noFill/>
          </a:ln>
        </p:spPr>
        <p:txBody>
          <a:bodyPr lIns="90000" rIns="90000" tIns="46800" bIns="46800" anchor="t">
            <a:normAutofit fontScale="94000"/>
          </a:bodyPr>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45- 1968 publik Mulai terbuka dan mengetahui banyak</a:t>
            </a:r>
            <a:endParaRPr b="0" lang="en-US" sz="3600" spc="-1" strike="noStrike">
              <a:solidFill>
                <a:srgbClr val="ffffff"/>
              </a:solidFill>
              <a:latin typeface="Arial"/>
            </a:endParaRPr>
          </a:p>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66 Di Belanda mengalami perkembangan pesat lebih ke arah ilmiah, di Amerika lebih diarahkan ke Bisnis</a:t>
            </a:r>
            <a:endParaRPr b="0" lang="en-US" sz="3600" spc="-1" strike="noStrike">
              <a:solidFill>
                <a:srgbClr val="ffffff"/>
              </a:solidFill>
              <a:latin typeface="Arial"/>
            </a:endParaRPr>
          </a:p>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90- sekarang Membangun kerja sama secara lokal, nasional dan internasio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837720"/>
            <a:ext cx="6933960" cy="685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entasi PR ke masa depan</a:t>
            </a:r>
            <a:endParaRPr b="0" lang="en-US" sz="4400" spc="-1" strike="noStrike">
              <a:solidFill>
                <a:srgbClr val="ffffff"/>
              </a:solidFill>
              <a:latin typeface="Times New Roman"/>
            </a:endParaRPr>
          </a:p>
        </p:txBody>
      </p:sp>
      <p:sp>
        <p:nvSpPr>
          <p:cNvPr id="129" name="PlaceHolder 2"/>
          <p:cNvSpPr>
            <a:spLocks noGrp="1"/>
          </p:cNvSpPr>
          <p:nvPr>
            <p:ph type="subTitle"/>
          </p:nvPr>
        </p:nvSpPr>
        <p:spPr>
          <a:xfrm>
            <a:off x="1295280" y="1676520"/>
            <a:ext cx="6553440" cy="39304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ngan kemajuan teknologi yang ada terutama teknologi komunikasi elektronik, seorang PRO harus mampu menguasai dan memanfaatkannya untuk organisasi yang diwakilinya. Menurut John Naisbitt kita telah bergeser dari masyarakat industri ke masyarakat berdasarkan kreasi dari teknologi tinggi, mencocokkan setiap teknologi baru dengan tanggapan manusiawi sebagai imbanganny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kembangan Humas Di Indonesia</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umas mulai dikenal Pada dekade 1950-an.</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60 mulai memasuki perguruan tinggi.</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71 dibentuk BAKOHUMA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77 Indonesia menjadi anggota Federation Of Asean Public Relations Organizaton ( FAPRO)</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gsi Humas menurut pedoman dan manual penerangan:</a:t>
            </a:r>
            <a:endParaRPr b="0" lang="en-US" sz="40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sanakan hubungan ke dalam, memberikan informasi mengenai departemen terhadap karyaw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ukan hubungan ke luar, memberikan informasi tentang departemen terhadap masyaraka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ukan penelahaan serta pembinaan pendapat umum melalui unsur-unsur khusus lembaga masyarak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6840"/>
            <a:ext cx="150948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Fungsi Humas</a:t>
            </a:r>
            <a:endParaRPr b="0" lang="en-US" sz="1400" spc="-1" strike="noStrike">
              <a:solidFill>
                <a:srgbClr val="ffffff"/>
              </a:solidFill>
              <a:latin typeface="Times New Roman"/>
            </a:endParaRPr>
          </a:p>
        </p:txBody>
      </p:sp>
      <p:sp>
        <p:nvSpPr>
          <p:cNvPr id="99" name="PlaceHolder 2"/>
          <p:cNvSpPr>
            <a:spLocks noGrp="1"/>
          </p:cNvSpPr>
          <p:nvPr>
            <p:ph/>
          </p:nvPr>
        </p:nvSpPr>
        <p:spPr>
          <a:xfrm>
            <a:off x="457200" y="837720"/>
            <a:ext cx="8229600" cy="4876920"/>
          </a:xfrm>
          <a:prstGeom prst="rect">
            <a:avLst/>
          </a:prstGeom>
          <a:noFill/>
          <a:ln w="0">
            <a:noFill/>
          </a:ln>
        </p:spPr>
        <p:txBody>
          <a:bodyPr lIns="90000" rIns="90000" tIns="46800" bIns="46800" anchor="t">
            <a:normAutofit fontScale="97000"/>
          </a:bodyPr>
          <a:p>
            <a:pPr marL="332640" indent="-33264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lakukan pembinaan serta bimbingan untuk mengembangkan kehumasan sebagai media penerangan</a:t>
            </a:r>
            <a:endParaRPr b="0" lang="en-US" sz="3600" spc="-1" strike="noStrike">
              <a:solidFill>
                <a:srgbClr val="ffffff"/>
              </a:solidFill>
              <a:latin typeface="Arial"/>
            </a:endParaRPr>
          </a:p>
          <a:p>
            <a:pPr marL="332640" indent="-33264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yelenggarakan koordinasi dan sinkronisasi serta kerja sama kegiatan humas untuk penyempurnaan pelayanan terhadap umu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pek PR yang Hakiki</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saran PR adalah Publik Internal dan Publik Eksternal. Publik Internal adalah orang-orang yag berada atau tercakup dalam organisasi. Publik Eksternal adalah orang-orang diluar organisasi yang terkait dengan kegiatan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egiatan PR adalah komunikasi dua arah atau komunikasi timbal balik.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ungsi Public Relations</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udahkan dan menjamin arus opini yang mewakili khalayak suatu organisasi, sehingga kebijakan organisasi seiring dengan kepentingan khalayak</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nasehati manajemen dalam rangka mencapai kebijakan yang diterima oleh khalayak organisasi</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rencanakan dan merancang program-program yang dapat menimbulkan penafsiran dari khalayak tentang operasionalisasi perusahaan (</a:t>
            </a:r>
            <a:r>
              <a:rPr b="0" i="1" lang="en-US" sz="2700" spc="-1" strike="noStrike">
                <a:solidFill>
                  <a:srgbClr val="ffffff"/>
                </a:solidFill>
                <a:latin typeface="Arial"/>
              </a:rPr>
              <a:t>Cutlip &amp; Cent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ertrand R Canfield menyebut fungsi PR sebagai berikut:</a:t>
            </a:r>
            <a:endParaRPr b="0" lang="en-US" sz="40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gabdi Kepada Kepentingan umum</a:t>
            </a:r>
            <a:endParaRPr b="0" lang="en-US" sz="3600" spc="-1" strike="noStrike">
              <a:solidFill>
                <a:srgbClr val="ffffff"/>
              </a:solidFill>
              <a:latin typeface="Arial"/>
            </a:endParaRPr>
          </a:p>
          <a:p>
            <a:pPr marL="343080" indent="-34308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melihara Komunikasi yang baik</a:t>
            </a:r>
            <a:endParaRPr b="0" lang="en-US" sz="3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itik beratkan moral dan prilaku yang baik ( kejujuran, Integritas dan loyalitas</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i dua pendapat diatas bisa ditarik kesimpulan pelaksanaan fungsi PR tersebut adalah</a:t>
            </a:r>
            <a:endParaRPr b="0" lang="en-US" sz="32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ungsi Konstruktif ; fungsi ini mendorong PR untuk membuat aktivitas-aktivitas yang terencana, berkesinambunga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ungsi Korektif; di fungsikannya PR dalam sebuah organisasi manakala krisis sudah terjad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3:49:14Z</dcterms:created>
  <dc:creator>Nova Maniez</dc:creator>
  <dc:description/>
  <dc:language>en-US</dc:language>
  <cp:lastModifiedBy>Nova Maniez</cp:lastModifiedBy>
  <dcterms:modified xsi:type="dcterms:W3CDTF">2009-09-13T00:27:29Z</dcterms:modified>
  <cp:revision>8</cp:revision>
  <dc:subject/>
  <dc:title>PERKEMBANGAN PR</dc:title>
</cp:coreProperties>
</file>